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BFC5-BF05-4A9B-97CA-926BD9B16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A0AB-0E3C-431B-88CE-A4AB3504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9E61-93B2-4BAF-8182-D8BDE1337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8F46-988C-4BE0-BCC0-BB284CF4E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B0B3-9275-4442-87BA-EAFEB80C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AE71-1BB7-46E3-8D14-E9969AD1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D4B3-EF3A-4C66-834D-D74863FB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E2EE-E7DD-4349-85DE-549B7CFE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AE0B-E2E2-49CD-B876-9FC2BDD1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F7CB-EEA5-4BBC-B396-F69A1B90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6819-FE57-419B-B6CC-62B38DD5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C219-2FBB-4D6F-9127-5DD281AC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8321-EB4D-45A2-AAAB-9ADCDCE6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2BBB-2335-4473-BE65-AC50DBBE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8BA8-C294-4B9D-840C-21D120D5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ABD0-FF59-4C2B-BBFE-E0BC1F5E2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FA8BF-97C0-4977-9F8D-712383C43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442C-E170-4153-9C06-49A78185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8A33-85AD-4186-AB7C-8AE1FAD5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BF2E-EBBE-4F9D-9C4E-2F7B1AD5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42CC-37C8-4BBD-B28E-296F6F21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E97E-857F-4B51-A556-AAB599BE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A26E-3F10-46F6-B73B-3F714570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4027-4330-46DB-B1E6-A9DF2EFB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90BD-A095-4CBA-A286-3A2B864BB2A5}" type="datetime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5F40-E6D5-415E-B042-09F23DC5FC4F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9F94-865A-44A1-9DC0-11594FFBF427}" type="datetime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2D97-2F1A-41D2-B091-5CD0764ABD21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66"/>
                </a:solidFill>
                <a:latin typeface="Times New Roman"/>
                <a:ea typeface="隶书"/>
              </a:rPr>
              <a:t>软件工程硕士</a:t>
            </a:r>
            <a:br>
              <a:rPr sz="6000"/>
            </a:br>
            <a:r>
              <a:rPr b="1" lang="zh-CN" sz="6000" spc="-1" strike="noStrike">
                <a:solidFill>
                  <a:srgbClr val="ffcc66"/>
                </a:solidFill>
                <a:latin typeface="Times New Roman"/>
                <a:ea typeface="隶书"/>
              </a:rPr>
              <a:t>研究与论文工作指导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7040" y="44956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隶书"/>
              </a:rPr>
              <a:t>姚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74AE-9131-48B5-AFB4-E4428E59FAE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5B13294-2A40-41C6-A277-2666948534C2}" type="datetime1">
              <a:rPr lang="en-US"/>
              <a:t>07/29/26</a:t>
            </a:fld>
          </a:p>
        </p:txBody>
      </p:sp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研究进展与跟踪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eep a journal of your idea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t some reasonable goals with deadline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eep a to do list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inually update you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roblem statement; Goals; Approach; One-minute version of your research (elevator ride summary) ; Five-minute version of your research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scuss your research with </a:t>
            </a:r>
            <a:r>
              <a:rPr b="0" lang="en" sz="2800" spc="-1" strike="noStrike">
                <a:solidFill>
                  <a:srgbClr val="eaeaea"/>
                </a:solidFill>
                <a:latin typeface="Times New Roman"/>
              </a:rPr>
              <a:t>anyon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who will listen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rite about your work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front your fears and weaknesse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alance reading, thinking, writing and hacking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voiding the research blu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B85D-3208-42B4-9D69-AAAF43388EA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8C0C84-B1DD-40F8-9EB4-66D61AE8FC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宋体"/>
              </a:rPr>
              <a:t>几点个人体会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一半时间做开发，一半时间看文献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集中时间看文献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做好记录和标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准备引用的文章要亲自看过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文章题目粘贴为文件名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不同主题存入不同文件夹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看过的文献归入不同的子文件夹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重要文献编号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不要好高骛远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文献要追踪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记录要复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B542-33A7-43EC-982E-1F36359AE6C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554093-9919-4EF1-A19B-9BADFB05ED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宋体"/>
              </a:rPr>
              <a:t>论文写作规划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凡事豫则立，不立则废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研究计划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开题报告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阅读、思考、脑力激荡下获得的规划概念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简明扼要而具说服力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15B6-1EE3-499B-BCEF-249649E0A22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C8397F-BE5B-4564-A2B0-C4275804E8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宋体"/>
              </a:rPr>
              <a:t>论文格式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期刊论文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为什么研究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y</a:t>
            </a:r>
            <a:r>
              <a:rPr b="0" lang="en-US" sz="2400" spc="-1" strike="noStrike">
                <a:solidFill>
                  <a:srgbClr val="eaeaea"/>
                </a:solidFill>
                <a:latin typeface="宋体"/>
              </a:rPr>
              <a:t>），</a:t>
            </a: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怎么样研究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ow</a:t>
            </a:r>
            <a:r>
              <a:rPr b="0" lang="en-US" sz="2400" spc="-1" strike="noStrike">
                <a:solidFill>
                  <a:srgbClr val="eaeaea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和结果是什么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at</a:t>
            </a:r>
            <a:r>
              <a:rPr b="0" lang="en-US" sz="2400" spc="-1" strike="noStrike">
                <a:solidFill>
                  <a:srgbClr val="eaeaea"/>
                </a:solidFill>
                <a:latin typeface="宋体"/>
              </a:rPr>
              <a:t>）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发现发明型；分析计算型（仿真分析）；科技报告型；论证型；综述。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期刊论文格式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题目、摘要和关键词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引言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正文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结论和致谢（结束语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参考文献、附录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4F07-EEF2-408F-84B6-A1A8B747CF5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89C3EC-AB0D-4E4B-BE8A-10E0D94C51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宋体"/>
              </a:rPr>
              <a:t>硕、博士学位论文组成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摘要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绪论（综述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概述——研究目的、范围；国内外进展情况、前人成果；本人设想、研究方法概述；论文安排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基本理论——介绍现有的基本理论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正文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核心——论文观点的理论分析（基本理论可放在综述部分）；系统方案及结果；本人的论点及讨论等；附有各种有关的图表、照片、公式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结论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最终结论——主要研究内容和结论，意义，地位；主要创新点；存在问题、不足或进一步工作的设想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1951-A81C-4147-8C0B-0D844BE3C9A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D5A66A-5E1E-4312-A072-0766B01A21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宋体"/>
              </a:rPr>
              <a:t>学位论文与期刊论文差别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国内外进展应详细说明，基础理论也应介绍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创新（自己工作）论述详细，包括理论分析实验系统和实验结果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结论中要有比较详细的总结并明确自己的贡献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一篇（博士）学位论文可以包括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－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部分工作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学位论文内容可以发表成若干篇期刊论文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FEA6-5CE1-414A-A23F-543D0900FB8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07D73A-3BFF-4866-B0D8-B7BE21E000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宋体"/>
              </a:rPr>
              <a:t>论文撰写过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开始撰稿时机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学位论文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s.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期刊论文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撰写前准备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先列出纲要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将心中的想法及所考虑之点全部列出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定稿步骤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决定材料与内容；整理资料 ；撰写绪论 ；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决定标题与摘要 ；第一次修正 ；静心后再处理稿件 ；立即第二次修正 ；再一次重复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D20D-CF1C-47A4-943A-A3A0209A23E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81A37B-C695-46CC-A815-93A18EE1A19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宋体"/>
              </a:rPr>
              <a:t>实践工作中的研究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/</a:t>
            </a:r>
            <a:r>
              <a:rPr b="0" lang="zh-CN" sz="4400" spc="-1" strike="noStrike">
                <a:solidFill>
                  <a:srgbClr val="ffcc66"/>
                </a:solidFill>
                <a:latin typeface="宋体"/>
              </a:rPr>
              <a:t>论文思路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ifecycle Best Practice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echnology Overview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cess Improvement Case Stud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eam Management and Team Leadership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sonal Career Development and Training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ask specific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pecific product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CFA5-3816-430E-9F5F-E0678BB8DF7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C9C1F0-440C-4E9B-A19F-E8B09BD256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宋体"/>
              </a:rPr>
              <a:t>资源连接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宋体"/>
                <a:ea typeface="Times New Roman"/>
              </a:rPr>
              <a:t>Software Engineering Institute</a:t>
            </a:r>
            <a:r>
              <a:rPr b="0" lang="en-US" sz="2800" spc="-1" strike="noStrike">
                <a:solidFill>
                  <a:srgbClr val="eaeaea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eaeaea"/>
                </a:solidFill>
                <a:latin typeface="宋体"/>
                <a:ea typeface="Times New Roman"/>
              </a:rPr>
              <a:t>SEI</a:t>
            </a:r>
            <a:r>
              <a:rPr b="0" lang="en-US" sz="2800" spc="-1" strike="noStrike">
                <a:solidFill>
                  <a:srgbClr val="eaeaea"/>
                </a:solidFill>
                <a:latin typeface="宋体"/>
              </a:rPr>
              <a:t>）</a:t>
            </a:r>
            <a:r>
              <a:rPr b="0" lang="en-US" sz="2800" spc="-1" strike="noStrike">
                <a:solidFill>
                  <a:srgbClr val="000033"/>
                </a:solidFill>
                <a:latin typeface="宋体"/>
                <a:ea typeface="Times New Roman"/>
              </a:rPr>
              <a:t>http://www.sei.cmu.edu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软件工程职业等级：</a:t>
            </a:r>
            <a:r>
              <a:rPr b="0" lang="en-US" sz="2800" spc="-1" strike="noStrike">
                <a:solidFill>
                  <a:srgbClr val="eaeaea"/>
                </a:solidFill>
                <a:latin typeface="宋体"/>
                <a:ea typeface="Times New Roman"/>
              </a:rPr>
              <a:t>http://www.construx.com/ladder/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开放源代码软件工程：</a:t>
            </a:r>
            <a:r>
              <a:rPr b="0" lang="en-US" sz="2800" spc="-1" strike="noStrike">
                <a:solidFill>
                  <a:srgbClr val="eaeaea"/>
                </a:solidFill>
                <a:latin typeface="宋体"/>
                <a:ea typeface="Times New Roman"/>
              </a:rPr>
              <a:t>http://www.tigris.org/index.html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国内部分包含较多中文资源的软件工程站点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宋体"/>
                <a:ea typeface="Times New Roman"/>
              </a:rPr>
              <a:t>http://www.51cmm.com/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宋体"/>
                <a:ea typeface="Times New Roman"/>
              </a:rPr>
              <a:t>http://www.umlchina.com/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宋体"/>
                <a:ea typeface="Times New Roman"/>
              </a:rPr>
              <a:t>http://www-900.ibm.com/developerWork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宋体"/>
                <a:ea typeface="Times New Roman"/>
              </a:rPr>
              <a:t>http://www.iturls.com/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DBFC-9D5B-405D-BCA1-97B0C8AB60F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01B9A1-6930-439F-9B7A-8535BBC5DF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宋体"/>
              </a:rPr>
              <a:t>部分专业刊物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1a8b"/>
                </a:solidFill>
                <a:latin typeface="宋体"/>
              </a:rPr>
              <a:t>www.sdmagazine.com</a:t>
            </a:r>
            <a:r>
              <a:rPr b="0" lang="en-US" sz="2800" spc="-1" strike="noStrike">
                <a:solidFill>
                  <a:srgbClr val="eaeaea"/>
                </a:solidFill>
                <a:latin typeface="宋体"/>
              </a:rPr>
              <a:t> ——Software Development Magazi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宋体"/>
              </a:rPr>
              <a:t>www.ddj.com ——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软件开发人员的专业刊物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宋体"/>
              </a:rPr>
              <a:t>www.vsj.co.uk/home/——VSJ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是英国最受欢迎的软件专业杂志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eaeaea"/>
                </a:solidFill>
                <a:latin typeface="宋体"/>
                <a:ea typeface="Times New Roman"/>
              </a:rPr>
              <a:t>www.cio.com/resources/   ---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专门针对</a:t>
            </a:r>
            <a:r>
              <a:rPr b="0" lang="en" sz="2800" spc="-1" strike="noStrike">
                <a:solidFill>
                  <a:srgbClr val="eaeaea"/>
                </a:solidFill>
                <a:latin typeface="宋体"/>
                <a:ea typeface="Times New Roman"/>
              </a:rPr>
              <a:t>CI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宋体"/>
              </a:rPr>
              <a:t>www.infoworld.com/cto/t_cto_magazine.html ---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专门针对</a:t>
            </a:r>
            <a:r>
              <a:rPr b="0" lang="en-US" sz="2800" spc="-1" strike="noStrike">
                <a:solidFill>
                  <a:srgbClr val="eaeaea"/>
                </a:solidFill>
                <a:latin typeface="宋体"/>
              </a:rPr>
              <a:t>CTO</a:t>
            </a:r>
            <a:r>
              <a:rPr b="0" lang="en-US" sz="2800" spc="-1" strike="noStrike">
                <a:solidFill>
                  <a:srgbClr val="eaeaea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技术总监、总工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宋体"/>
              </a:rPr>
              <a:t>www.stqemagazine.com  ——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著名的软件工程管理读物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宋体"/>
              </a:rPr>
              <a:t>http://www.tsepm.com/tsepm/ ——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著名的软件工程管理读物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5DC0-0439-44C9-A4C3-7125A4A7CE2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2D17EC-E6B8-4DF8-BC5F-9AAA0455DB9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eeb00b"/>
                </a:solidFill>
                <a:uFillTx/>
                <a:latin typeface="Times New Roman"/>
              </a:rPr>
              <a:t>研究</a:t>
            </a:r>
            <a:r>
              <a:rPr b="0" i="1" lang="zh-CN" sz="3200" spc="-1" strike="noStrike">
                <a:solidFill>
                  <a:srgbClr val="eeb00b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eeb00b"/>
                </a:solidFill>
                <a:latin typeface="Times New Roman"/>
              </a:rPr>
              <a:t>vs. </a:t>
            </a:r>
            <a:r>
              <a:rPr b="0" i="1" lang="zh-CN" sz="3200" spc="-1" strike="noStrike" u="sng">
                <a:solidFill>
                  <a:srgbClr val="eeb00b"/>
                </a:solidFill>
                <a:uFillTx/>
                <a:latin typeface="Times New Roman"/>
              </a:rPr>
              <a:t>论文</a:t>
            </a:r>
            <a:r>
              <a:rPr b="0" i="1" lang="zh-CN" sz="3200" spc="-1" strike="noStrike">
                <a:solidFill>
                  <a:srgbClr val="eeb00b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eeb00b"/>
                </a:solidFill>
                <a:latin typeface="Times New Roman"/>
              </a:rPr>
              <a:t>研究的最终目的在成果发表。完成研究成果的发表，才算研究历程的完整终结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B319-A943-4F04-ABE0-2C2F1C5F27B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1CE4FE-A132-4DD5-A3F5-131BDA70F3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总结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做研究，写论文，要下苦功，天赋需苦功为伴，无捷径可循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发掘问题、收集资料、比较鉴别、去芜存精是做研究的基本功夫，必须有效掌握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千万不要认为论文必须从第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页开始写到最后，重要的是立即着手开始写点什么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FE36-A261-41C8-A0E1-A3654D0BC57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2BF66F-8778-4E5A-838A-F55307E87C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666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8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问题和建议？？</a:t>
            </a:r>
            <a:endParaRPr b="0" lang="en-US" sz="6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BF8A-1E37-49C7-9803-6274D92F45A5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F7BD36-BBD1-467E-B8BA-226661593F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研究”是什么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研究”与“问题”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questions)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息息相关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运用一套有系统的方法和步骤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ystematic approach)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提出解决问题的答案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swer)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F42A-A8C4-4BB6-BAAE-3C7836F2C58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709F39-B5E8-411A-B3EC-22D11EEA12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宋体"/>
              </a:rPr>
              <a:t>研究方法：旁征博引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广博收集研究和参考资料，细微观察，然后予以归纳、分析、批判——基本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“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如果抄袭一个人的作品，那是剽窃；如果抄袭十个人的作品，那是做研究工作；如果抄袭一百个人的作品那就成为学者”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eaeaea"/>
                </a:solidFill>
                <a:latin typeface="宋体"/>
              </a:rPr>
              <a:t>第一种人好比”蜘蛛结网”，其材料不是从外面找来的，而是从肚子吐出来的；第二种人好比”蚂蚁囤粮”，他们只是将外面的东西，一一搬回储藏起来，并不加以加工改造；第三种人好比”蜜蜂酿蜜”，他们采摄百花的精华，加上一番酿造的功夫，做成了又香又甜的糖蜜。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444F-23FD-455C-8CB2-42732A38F6C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3B0D0F-116F-44A0-A187-B711B07952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宋体"/>
              </a:rPr>
              <a:t>资料收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资料的宝库：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ternet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与图书馆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OOGLE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检索技巧！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最终的检索结果还依赖于个人对于待检索知识的掌握程度和范围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!!!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资料鉴别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区别原始资料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imary sources)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和第二手资料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ondary sources)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客观性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bjectivity of the source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）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作者个人的知名度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qualifications of the autho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）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等级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evel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）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F589-AFC4-4A1B-9335-6607D9CF92A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FC9754-2B77-4C41-8F19-C16FC0C8FF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宋体"/>
              </a:rPr>
              <a:t>资料消化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创新——多方吸收前人研究的精华，择善而从，融会贯通后再加以重组与利用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w To Read A Technical Article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基础阅读、检视阅读、分析阅读、主题阅读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 efficient - only read what you need to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ake notes on every paper you find worth reading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ummarize what you have read on each topic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ad PhD these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ackground, Method section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C1C0-F5A7-44EE-B337-7555D7CAA65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1A4A2D-2D7F-4C08-A4E8-5027F1789C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宋体"/>
              </a:rPr>
              <a:t>研究选题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biggest </a:t>
            </a:r>
            <a:r>
              <a:rPr b="1" lang="en" sz="3200" spc="-1" strike="noStrike">
                <a:solidFill>
                  <a:srgbClr val="eeb00b"/>
                </a:solidFill>
                <a:latin typeface="Times New Roman"/>
              </a:rPr>
              <a:t>obstacle</a:t>
            </a:r>
            <a:r>
              <a:rPr b="0" lang="en" sz="3200" spc="-1" strike="noStrike">
                <a:solidFill>
                  <a:srgbClr val="eaeaea"/>
                </a:solidFill>
                <a:latin typeface="Times New Roman"/>
              </a:rPr>
              <a:t> for most stud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eaeaea"/>
                </a:solidFill>
                <a:latin typeface="Times New Roman"/>
              </a:rPr>
              <a:t>The subject should be timely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eaeaea"/>
                </a:solidFill>
                <a:latin typeface="Times New Roman"/>
              </a:rPr>
              <a:t>Your work should lead to a well defined set of results to which you can lay clai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小题大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eaeaea"/>
                </a:solidFill>
                <a:latin typeface="Times New Roman"/>
              </a:rPr>
              <a:t>The best theses show a high level of creativit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092C-768E-46B3-BC14-2556ADA7EAC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E8E174-B761-410D-967F-1473B3BF62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研究选题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eaeaea"/>
                </a:solidFill>
                <a:latin typeface="Times New Roman"/>
              </a:rPr>
              <a:t>Becoming an Active Reader and Listen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2800" spc="-1" strike="noStrike">
                <a:solidFill>
                  <a:srgbClr val="eaeaea"/>
                </a:solidFill>
                <a:latin typeface="Times New Roman"/>
              </a:rPr>
              <a:t>Canonical questions</a:t>
            </a:r>
            <a:r>
              <a:rPr b="0" lang="en" sz="2800" spc="-1" strike="noStrike">
                <a:solidFill>
                  <a:srgbClr val="eaeaea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eaeaea"/>
                </a:solidFill>
                <a:latin typeface="Times New Roman"/>
              </a:rPr>
              <a:t>From where did the author seem to draw the ideas?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eaeaea"/>
                </a:solidFill>
                <a:latin typeface="Times New Roman"/>
              </a:rPr>
              <a:t>What exactly was accomplished by this piece of work?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eaeaea"/>
                </a:solidFill>
                <a:latin typeface="Times New Roman"/>
              </a:rPr>
              <a:t>How does it seem to relate to other work in the field?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eaeaea"/>
                </a:solidFill>
                <a:latin typeface="Times New Roman"/>
              </a:rPr>
              <a:t>What would be the reasonable next step to build upon this work?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eaeaea"/>
                </a:solidFill>
                <a:latin typeface="Times New Roman"/>
              </a:rPr>
              <a:t>What ideas from related fields might be brought to bear upon this subject?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eaeaea"/>
                </a:solidFill>
                <a:latin typeface="Times New Roman"/>
              </a:rPr>
              <a:t>Exposing Yourself to Research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eaeaea"/>
                </a:solidFill>
                <a:latin typeface="Times New Roman"/>
              </a:rPr>
              <a:t>Directed Stud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eaeaea"/>
                </a:solidFill>
                <a:latin typeface="Times New Roman"/>
              </a:rPr>
              <a:t>Developing the Germ of an Idea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ED30-AFB1-41E9-81D8-6E973C08213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ED56F7-81EE-4844-A20E-DF965EDB3B9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宋体"/>
              </a:rPr>
              <a:t>研究选题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eaeaea"/>
                </a:solidFill>
                <a:latin typeface="Times New Roman"/>
              </a:rPr>
              <a:t>A Pitfall to Avoi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eaeaea"/>
                </a:solidFill>
                <a:latin typeface="Times New Roman"/>
              </a:rPr>
              <a:t>It is impossible to ``finish a literature review and then start research."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eb00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eeb00b"/>
                </a:solidFill>
                <a:latin typeface="Times New Roman"/>
              </a:rPr>
              <a:t>active</a:t>
            </a:r>
            <a:r>
              <a:rPr b="0" lang="en" sz="2400" spc="-1" strike="noStrike">
                <a:solidFill>
                  <a:srgbClr val="eaeaea"/>
                </a:solidFill>
                <a:latin typeface="Times New Roman"/>
              </a:rPr>
              <a:t> reader</a:t>
            </a:r>
            <a:r>
              <a:rPr b="0" lang="en" sz="2400" spc="-1" strike="noStrike">
                <a:solidFill>
                  <a:srgbClr val="eaeaea"/>
                </a:solidFill>
                <a:latin typeface="Times New Roman"/>
              </a:rPr>
              <a:t>；</a:t>
            </a:r>
            <a:r>
              <a:rPr b="0" lang="en" sz="2400" spc="-1" strike="noStrike">
                <a:solidFill>
                  <a:srgbClr val="eaeaea"/>
                </a:solidFill>
                <a:latin typeface="Times New Roman"/>
              </a:rPr>
              <a:t>continuing education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eaeaea"/>
                </a:solidFill>
                <a:latin typeface="Times New Roman"/>
              </a:rPr>
              <a:t>Choosing an Idea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eaeaea"/>
                </a:solidFill>
                <a:latin typeface="Times New Roman"/>
              </a:rPr>
              <a:t>Make a list of open problems and possible projec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eaeaea"/>
                </a:solidFill>
                <a:latin typeface="Times New Roman"/>
              </a:rPr>
              <a:t>Remain Activ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eaeaea"/>
                </a:solidFill>
                <a:latin typeface="Times New Roman"/>
              </a:rPr>
              <a:t>continue reading: How can these ideas help me solve my research problem?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eaeaea"/>
                </a:solidFill>
                <a:latin typeface="Times New Roman"/>
              </a:rPr>
              <a:t>Often the initial idea is quite far from the final thesis topic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7866-0273-4379-89CD-AD6F64AE083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E0CB95-AD25-42E5-85F9-111EF0C6EC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0T02:34:48Z</dcterms:created>
  <dc:creator>ll</dc:creator>
  <dc:description/>
  <dc:language>en-US</dc:language>
  <cp:lastModifiedBy>zyao</cp:lastModifiedBy>
  <dcterms:modified xsi:type="dcterms:W3CDTF">2004-04-03T15:14:51Z</dcterms:modified>
  <cp:revision>1618</cp:revision>
  <dc:subject/>
  <dc:title>一、CSGUI图形环境综述</dc:title>
</cp:coreProperties>
</file>